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F6D-C4DC-469B-8FED-71940591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D08-F724-4D41-BB12-C0EEDD0D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86E8F-62ED-40C7-8928-E6DEF7E9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98BBC-8240-467B-841D-B60F168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B582C-66D1-4AF7-9ED0-F210CD0C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DD5A4-4353-468B-B886-3C881F2B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D6CA7-6637-4364-8162-DF61F8C5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05AA2-CE2D-4712-AAEA-EE5B2ECD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449F7-099F-4698-B1FD-01BA2188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B9724-3235-4FAA-ADE6-AC545374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01AB3-DB39-467A-A843-4BAB5502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A3FC5-A34A-4B63-86C1-C3EBCC2B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76D-1D9A-4F65-A54C-3BAB4DB1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9A554-832A-4B66-AABB-13382A08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BF292-0579-4A21-A803-5AC7FD7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48FF3-1DF9-4AE1-A9FD-CD69DC1B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3F2B1-81BD-4138-AEB5-902994E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2D55D-7229-4F18-B934-B8CC9EC2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A047F-62F4-4BEC-950B-81C946F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8EC12-9751-4D11-B7D1-06E96DF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A16FA-DE23-4D8F-8246-090B90A1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19CF4-6402-4BD7-A230-031B8327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275D3-D039-41B9-A674-B4484CD1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150-E558-427A-A970-22666935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7C3C3-95FC-4D7F-8AC2-C2215DC6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7A90E-F576-40CA-902B-FA1D5357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A633C-44BF-4509-816D-A304D8F3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18AD2-C109-45C1-8181-A97099B5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EFF7C-1D27-4FF5-8297-6DB02C23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19242-769F-4F8C-BA72-D023CA0C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A0227-093D-4396-82B4-DA5A6328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87FC6-955C-4EB8-858F-4BF8DCD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846D9-7526-438E-8CB0-5D0D5A6C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5586A-F136-49CA-8DFA-53D0A176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39F3-C905-4B21-A321-5A585630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3B5AA-DA02-4918-AFFA-97383600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26813-FA08-4B29-81D4-4AEE7FBA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4128A-9AF2-4EB0-9453-5ABB092F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565A1-5ECB-4648-86AB-16217C8B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50655-9952-4EDC-80DE-1353B27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F12D1-F426-44AE-8DCA-20B43EB9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53829-847E-4492-8FD5-5B6B57C2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050E0-3495-4CBC-9DB7-8958606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41823-810D-42F3-948F-E847FDC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36EF8-995C-42B4-AFDD-834ABEB6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222F-3193-44CA-8562-0A347F0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04073-D8F0-4B10-BE02-F4BD285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CEA0C-A044-4EF7-9902-0A296E15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81885-1B20-4625-8593-611C968F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5C5CB-BD18-4949-85B6-476B6C99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C6229-11D0-45A6-9644-C3885550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40AB1-F7B6-479B-B5B4-780E3808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F50E1-CB92-46D2-B5FD-66AD2058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10AE0-F398-4B82-BCAA-EFC71BA6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A1B24-7206-4354-8935-87CD62BE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3852F-F750-43D8-A84D-9986A416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FCE9-33EB-4F49-A4CB-8E61251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7BFAB-9889-47B7-B5E6-970680CE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B2585-314E-4FD5-90EB-93E69E9D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A1625-B4AE-4E1B-A62C-EAA6895D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A4778-ADA1-46F9-8DC4-F09BE7C8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940D4-13C2-45DA-9341-24CF5CF1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7C646-834C-48C0-8704-8ACE0E86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19A75-04A3-4D9A-9F21-874A1361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4C503-26C0-4CF3-A8D9-0645C247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03AEE-5FEB-4476-81E9-67DFB09D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D04ED-0B85-4027-A0C7-CF0C3E72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DBBE-4FBA-4C48-B43C-7B6A9F77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0B6BA-8EA7-4822-9A2B-49E60F5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E9848-E88B-40E7-BB65-4F6532F3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A2732-E0D7-418D-BDB6-CEE7ADEF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8EE2B-1CB0-4FC6-8BEE-E1D8D3CC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430F0-4C71-4C00-B930-61F2D4AE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D036B-4B29-4178-80D3-4FFA08E6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082F2-462B-4E7A-AF2B-84B07F14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420F7-E0FC-4BBB-82A2-6DE1873F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4093D-CB43-40CD-A848-A246007B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670EF-B3C1-4EFD-A62C-35FE4A2C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057D-C172-4B73-857B-6B13635A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6E663-3247-44DA-B648-98CBA54D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76BF3-FDEC-4AEF-A057-6A8DF268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A3A51-77A6-401E-8407-E55D3C5B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9FA9F-623E-410C-A5F0-F7A3BC4F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F8AD0-A56F-4D7B-8457-E8295C41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B4B0E-8E3F-4E87-90E1-F5BC94F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9BEBA-E718-4EE5-A321-FCAC160B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3547C-5961-43AF-94BB-9DDAFB6B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63607-A9FE-42FA-B0B4-D8DC1924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ACB88-DE2A-49FA-9615-DA4263D4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DD55-1906-470C-85D1-2CA33F87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63A16-8A3F-4366-B961-B9127E8C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0B7E3-137A-47CD-823A-3E3D052C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07608-1623-464E-843E-DC9A408F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5EE83-34D0-43B8-A064-D0A216B3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00921-11CD-406B-84C0-AD526E65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78A55F-900A-4D2E-91AF-3C6E33C2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5B7CF-3785-483D-816A-22ABC777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DAF10-1126-43A3-AC76-0CDA735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7F319-9021-48EC-BE9A-3E800F9C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2A9F6-E018-4DF2-B5D7-D16D5D6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7CA9-A697-4624-A9D5-DA0E638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D0156-4739-4BCF-B4F5-158D4C7D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3E95E-3216-4810-8C3B-5D623F11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8D981-A39B-4D9B-857A-352824B2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3ADAC-E276-4DCD-BA77-565410A0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B27F7-CF29-4D60-99BD-F63F1F8B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5C59C-ADBB-4DBA-A8CE-CC9A9B64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C6D47-78DC-47A5-A1DF-991192A8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89D397-0D80-43AE-ABF4-E3834E4C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3EBED-D29A-4F3A-AF68-E93DCE9B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08166-B5C7-49E4-8763-3EA5945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F9F-8F66-4C70-9E53-7F46BE9D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6AA2-D86A-4D94-923A-2F28C0C1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E99A0-578F-4716-AB29-0BB2ED5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06EB3-29C0-42B8-85C4-3621E646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9EF226-9910-4C72-B713-E2A9828D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A4CA7-3006-4D1A-939B-44604E18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2986D-B322-4A22-9E99-632BA749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C5E50-4200-4799-BC27-C274E45A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15BD8-DB59-4A14-80B3-2C4A02E8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9F5C4-81A6-41F2-A982-6117ACBC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3264A-0DD1-4614-BE67-0777487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08F17-AFAC-4934-9517-F5645CAD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4848-1F40-48D5-938B-A44DEF4C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3A020-96CA-4F55-BC35-F079B8AD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96320-1CD9-42F6-98A6-1E9DCE1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4E642-90B3-49B6-9AD3-42975753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B1FC6-62C8-46CF-8750-EF1813C6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35B79-A6DE-4F4D-AF7A-B3E65AD8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01BBE-7DEE-4E7B-8FE3-55EFB58A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08695-9255-4940-BB8C-CB9872E1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B4683-C401-4DFF-B993-69A6EDEE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83403-5644-4EFA-9CF6-0010B486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6CAC8-AE0F-42F5-ABC6-FC25ADA8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80B2-BD32-4D24-AA8C-F0D1C20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AE761-AF8C-4751-9784-946A120C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F53EC-2A31-498C-A04F-A860BE81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EA64D-E33D-48DD-B9E0-C66FB4B8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9AE07-C941-447E-A26D-DD79CE08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3CF550-4EAD-4936-9717-47B6C63B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C3B3F-734E-4CC1-B2AE-C0C1825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58A66-2756-4092-B4B9-4A5D4220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C3AC8-AB3B-4144-BF68-9DEA976C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B61B6-8469-41FD-AA12-7F3B51C8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3BB65-1F4A-4CAB-B559-D866BB46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B1CB-C0A8-4685-A897-B0483FA3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1EEC0-AD16-46EC-B0CE-3A9725F2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90C74-66EB-4215-A763-4F0BB5CE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296A4E-5698-44BD-BC3B-289AA6BA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6881D-4F49-4BAC-B6FC-5019FE5C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A961C7-8A60-436E-AC64-69AD4068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00A986-6D02-4605-86C0-86FCDDC2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A92D41-686B-4883-BA7E-D9185724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5B8CC8-5A9A-4723-A804-7719086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1A9A3C-5752-4F8E-AF77-82C70D21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05AC5F-EC7C-4302-A358-C681BA7F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321E-6CFF-4F6D-A642-39B42286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BE795F-83BF-47A7-9ACE-907D4E50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D37C1-1F67-43DB-87AF-1B2E8732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E25B6-2B41-4AF4-A962-4FB9FA46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03713-B2FA-467C-BC6D-DF4EB54F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38564B-1FEE-4C7F-BBE4-E817E517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7638E-CCDB-4D6C-B72D-6434593D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8C551B-54B0-4E1F-A1D8-CAC8FFE4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7E1532-9867-4D26-9784-EFE5B8D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75C22-E9D7-4B76-BF72-3938EAA7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C27BB-522B-4C51-BC89-C6B725C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743E-4517-42CE-98A5-5B0AD64A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5AE6B-53BD-4C5E-A5F9-B63F159A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7EC0B-3D23-4992-B3D1-B65E8405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A0659-0024-4AC3-A968-EDC9B70D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CE00D6-14DF-4F63-93E8-5C1AAA09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8DCE66-FD65-44DB-98E6-04EBA797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251F50-359D-4B10-9313-80C0BB59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80C34C-BD62-4F8F-A001-016D5437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570848-3C9F-4ACD-ADB7-CB2F91E4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042415-AC47-4467-AA35-5599B2ED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B5552-E3C2-4CB5-84DC-8E99A3A0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1035-ABB2-4498-999A-49FA8E9F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AD314F-7CB7-4040-B3B1-28652F0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FE69FB-38D3-43CC-971B-C6B0D755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2D1EAE-689A-444A-A7ED-72611784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332CAB-747D-44AB-A11A-B584D7EC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952196-CCC2-4C23-A20A-8D7E2AF0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A457CD-75B0-4E87-8CDF-94878067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BB8563-161B-48D1-BA67-4DC37063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3FD32A-068A-4977-BEE9-DF5A74AF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C0396C-0DA5-44AE-8F2E-78C5E00B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9C2D53-6978-4445-A747-829C08A9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51F1-D0FD-4CE3-9C03-16A5D88A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F25922-27A3-4B60-A94A-5A3E9253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237D48-39B6-4F5C-BB48-94AC6CD4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E9D5E5-538A-4D26-9F7D-F5A26F63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93D781-D6FA-4E32-AC10-8F48A17F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362FF-42DC-4E75-B4A7-7F845A4A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78EDEC-4451-4364-BBE6-D896911D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8077AD-1DCA-4D33-B8C0-CA769D11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FBAB0F-FAD8-416C-A330-84BC5ACA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536AB4-53D2-4FB4-8CDC-65E8AC71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4ED115-00B6-4D69-A303-1056AD44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2A61-D709-4CBE-BC78-7F5F6724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D9B41C-D914-49EF-8D94-A761867F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5C4290-4051-4ED6-B780-B2AF6BC9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7753FC-9050-4C7E-A41F-2C78FD11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E1F6AA-1EE5-4A20-AE44-E33539C4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F52E3F-5A9C-43CA-8ED7-EF26FD91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D70831-1EE8-4556-944F-BFC1476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326CFF-FE1F-4FD3-AE36-3C83149D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F82A12-4F14-47A1-80F7-03E33C7B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1A7466-3679-41CA-B964-BB77E948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1BCA-7743-4F68-8614-DBF3AA1E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1B3-1576-4157-92E6-261B3F77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C7EB-B9FE-45F3-9BDD-7B09BF2A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A2A8-6A06-46E7-A204-0D84C7C2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9DBE-5242-4ABD-9E58-66669C96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2301-DF22-4C14-8B36-7F682E9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3EB1-8299-4DDD-9879-719731F7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0AA3-6DE0-41CE-81F3-0DE7C583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47742-2E63-4C08-ADF3-4824F26A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CE2D-69F0-4C3A-B8E1-B72503B9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00FD-11B5-4DA4-9891-C36A7B78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19C7-573F-4981-9E9B-BF61ACD2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451-27E2-4C9F-BCAE-4C5F715F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2E3D3-1F02-4231-866B-863D87E4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37CA-2C8E-4334-8BDA-00D55D6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FE4C-AE19-4D25-9B69-AE16CAF0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CAC7-F77E-49B1-AD57-669CA477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4B82-B77D-489F-9F6B-A954909C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DD31-2332-43DC-B440-B05D94FC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9E65-2109-46B9-82FF-1F02B2B9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6E4B-8ACC-4BDB-8658-F29DE6D1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1DD31-F73B-4FBA-81A1-9346E115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AEC98-984D-4BE4-94B9-686680C6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22D-ED96-4B16-9AAA-4E703B5F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AD191-EC82-4D03-9D32-AB16BF94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0FBF3-37EF-4CB9-97CB-20BF88B8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80B7-32AA-4735-97B0-BB0F32F3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2574-D010-4FE1-A84D-5E4E10E0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45B82-C517-44FB-967E-0E0BBE90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69109-D71C-459B-9D5D-66460ACF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8DAC-CD72-49EB-BB4E-E2C0B70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D0FB6-72B5-4EC2-A4F9-7A42978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7FDE8-763C-4174-A414-9A56CC62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D9293-E244-49B5-BAA9-6345520F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76E-8998-4F92-BF49-BB0DDC26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35245-64EB-4DA3-AD9B-E6314688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E84A1-3C9C-4CFA-AD11-ED980187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F922A-6DFB-47AE-BB03-BCCACB8C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18470-A3B8-4115-AB51-2AAAD097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617A0-D818-4779-97C6-B1B1DEBF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3FA57-3BA2-4027-882C-D2416D5F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A0C5-B7F3-4947-8225-BDA593D1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671CD-0547-4D53-A9AA-26420E9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D4D1B-D73F-4840-B926-CF9356D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6282C-A263-43B5-88B1-F45D6F5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A19-5E40-40C7-8F4C-E5422D3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EE0F1-2FB9-4EEA-A0A3-C47F0F5D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4ED90-3166-4574-B4B9-11293FF1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90323-0BF9-4982-8225-F55F5441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F875-3C6E-4D6B-92AA-D3F6F686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6EC5E-6667-4812-8929-4C2BAE78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3DBC-9075-4D72-A49C-28C83A9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A7A9A-086A-45C0-98CF-0CD47D54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B6662-ADE8-4FB2-B74D-4E899A7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85394-3975-4F38-A32C-7340FB0F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5CCF8-C324-469D-A4BC-E006B06A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A38-08CC-4196-8FF0-EEEE5B07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6E49-C4C9-4396-AA13-970A929F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9C33F-0B95-4B90-934F-F6F64F65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250B-82C4-4AA3-BE2B-3A3195C2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49C5-A522-428D-B4DB-D73ECF2D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695A5-5C2F-4F79-910B-19D63E67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87293-CB29-45FD-8A02-2497BD3D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AAB3F-9865-44EB-9363-889160F6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C3E52-752E-4E74-8CA7-1421FBB3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D4A46-7AB5-4A4A-8CE4-FE9FB68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2EB8B-D13A-4D1F-BA6A-5230DC10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ACF-957B-49A3-BE92-8A2B87F9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5EB5D-0944-4138-B387-0ECB244F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64F00-7B5F-409A-9A76-9C28AB19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8DB7-7FD6-4BEF-8824-9FFC7E39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58E5F-7A12-449D-B21A-A2265A63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B5764-0815-427D-B0FD-99593393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516C7-AEB1-4AE6-8A67-75BB56F4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0B1C2-8CF4-4782-AF38-EA60DD33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8DAB6-6B3A-4A87-8E72-C49EDCC7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8019-2F15-4A0F-BA2B-D5C9B47B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61660-9BD3-488D-BD08-D5521ED9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7643-784B-4B04-B78A-224C743371D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482-64C5-4F6A-8DD9-9B807482710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7EDE-A04E-471B-9FCF-F9CA703EB8FD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7E73-E043-4937-8C31-A7E681774D5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CBFB-8C77-489E-9C63-AF48883C980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C92-A476-4E72-9617-870DCC0C640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B8E-66AC-4D6E-88E7-AAC10088999A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E37D-93BB-49FA-8A70-AC679526127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1EAB-70D5-4791-8F27-E4421CD2E3DF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DD02-D7A3-4DD6-8005-8761CF0A245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55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9137-5C79-4813-89A8-20C9F94E7E5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865F-5159-4D51-A067-73C43FA1D9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9956-AE0E-41C5-92F5-A65A175282C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DDAA-36C9-499D-9BC7-DB32339777F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69CB-1952-45FC-9365-F391DEABD18F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81F6-F6F1-451C-8F69-FDB89B0D750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C302-8B7A-48C2-85A2-A123DEC89EEF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C7DE-A77C-475D-969A-312F0510471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84CF-3795-401A-AE88-57AB368CFCB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6F0-00CD-49AC-94BF-CA9002C9DED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3D3-2761-4594-A1D4-F3ADE3C1B9B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97A5-3F15-49F3-8E3E-8277113B5AE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0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AC3B-7E9B-434D-87FA-F6F053A63B6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38BC-8ACA-4D96-BB96-5E3B1BD4363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A45-D2F6-44BC-9328-3725ACC8722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1DB3-48CB-45E9-A505-8C4DA25F00C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BA46-2716-4D6E-AF66-41A95446C36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A4D0-6D00-4B9E-B7C0-14148F438DE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7CA-35D0-4A37-ACC4-8F8272D097C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EDCC-7759-4ACB-A8E3-54BB5E212DE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F11E-CE29-4907-8D2F-030E6ACAE081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6140-CB59-4CEF-9A21-723BB0CC4E9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00AD-F16A-4F45-BF63-40ED02229F9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4A4-1B06-4F55-8646-F187409B0AE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7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1942-CBAE-49A7-85DA-3838B3E87286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514F-4BCD-4410-BBD9-D55E1E3A4F2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54B6-8F1E-4CCC-95C7-EFBCAEAC005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519-66C6-4C46-B05E-85B6EB2F40F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97DE-68FD-48EF-A1D9-EAD2263745F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9269-DDC9-4CCC-A095-18AFEB47F91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5EC8-6614-476A-BEE0-698908AEA00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D4A1-DE89-4EDD-A3DC-CC0657CA7E5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701A-1E6F-49AE-AE83-ABF6FE0805E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E1A7-FA4E-4BF1-B2FF-A09DBBE936E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4CE2-F9BF-48D1-96A2-1B10AFC89FFA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2FA6-481A-4648-9118-A9D3E9CEC74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1038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A352-99E6-4C52-84B8-FDF36224EB0D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99CC-4D51-48DB-92EE-A4301A119D2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6"/>
          <p:cNvSpPr txBox="1"/>
          <p:nvPr/>
        </p:nvSpPr>
        <p:spPr>
          <a:xfrm>
            <a:off x="1143000" y="2071800"/>
            <a:ext cx="7581960" cy="33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蝴蝶的家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2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826920" y="220500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Times New Roman"/>
                <a:ea typeface="宋体"/>
              </a:rPr>
              <a:t>下雨的天气，我们遇到过很多次，蝴蝶我们更是遇到过无数只。下雨的日子，你有没有为蝴蝶担心过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Times New Roman"/>
                <a:ea typeface="宋体"/>
              </a:rPr>
              <a:t>为什么我会那么为蝴蝶担心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Times New Roman"/>
                <a:ea typeface="宋体"/>
              </a:rPr>
              <a:t>你是从文中哪里体会到作者为蝴蝶着急的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826560" y="1557360"/>
            <a:ext cx="72723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是那样的低沉，云是那样的黑，雷、电、雨、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雨欲来风满楼”，当轰隆隆的雷声在耳边响彻，当闪电咔嚓咔嚓地照亮漆黑的夜空，黑云在低沉的天空中翻着跟头，风又在疯狂地吹着哨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者用拟人的写法形象地说明了风雨交加的热闹场面，让人听着心惊、看着害怕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觉得蝴蝶能受得了吗？哪些句子说明了蝴蝶经受不住猛烈的风雨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的身体是那样轻盈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禁得起这猛烈的风雨呢？   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72010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蝴蝶没有及时躲过猛烈的风雨，会出现什么样的结果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翅膀会被雨点打湿：</a:t>
            </a:r>
            <a:br>
              <a:rPr sz="2800"/>
            </a:b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 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会被风吹得不知去向：</a:t>
            </a:r>
            <a:br>
              <a:rPr sz="2800"/>
            </a:b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 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彩粉会被雨水冲刷，失去原有的美丽：</a:t>
            </a:r>
            <a:br>
              <a:rPr sz="2800"/>
            </a:b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 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沾上泥污，摔在地上，再也无法飞起来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34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雨时，蝴蝶藏在哪里？作者作出了哪几种假设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屋宇、麦田、松林、园中之花、老树干、桥下、树叶下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作者作了这么多种假设，下雨的时候，蝴蝶是躲在这里吗？你是怎样认为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谈到了这么多地方，又说都没有见到蝴蝶，说明作者平时怎么样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我们都应该睁大你明亮的眼睛去发现，运用你聪灵的耳朵去聆听，像作者一样，置身于、置心于大自然，做一个善于观察和思考的孩子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2"/>
          <p:cNvSpPr/>
          <p:nvPr/>
        </p:nvSpPr>
        <p:spPr>
          <a:xfrm>
            <a:off x="2700360" y="1628640"/>
            <a:ext cx="30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课外实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"/>
          <p:cNvSpPr/>
          <p:nvPr/>
        </p:nvSpPr>
        <p:spPr>
          <a:xfrm>
            <a:off x="826920" y="249228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，你们认为蝴蝶的家会在哪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它的家又会是什么样的呢？用你手中的笔为小蝴蝶建一个家吧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WordArt 2"/>
          <p:cNvSpPr txBox="1"/>
          <p:nvPr/>
        </p:nvSpPr>
        <p:spPr>
          <a:xfrm>
            <a:off x="2556000" y="2349360"/>
            <a:ext cx="3889080" cy="224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 见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66"/>
                </a:solidFill>
                <a:latin typeface="Arial"/>
                <a:ea typeface="隶书"/>
              </a:rPr>
              <a:t>学习目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情地朗读课文，抓住重点语句体会作者对弱小生命的关爱之情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作者语言的生动优美，激发同学们的探索意识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755640" y="249228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看看，图片上是什么呀？看到这些蝴蝶，你最想说的是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知道蝴蝶的家在哪里吗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"/>
          <p:cNvSpPr/>
          <p:nvPr/>
        </p:nvSpPr>
        <p:spPr>
          <a:xfrm>
            <a:off x="755640" y="16286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创设情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4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519960" cy="4824360"/>
          </a:xfrm>
          <a:prstGeom prst="rect">
            <a:avLst/>
          </a:prstGeom>
          <a:ln w="0">
            <a:noFill/>
          </a:ln>
        </p:spPr>
      </p:pic>
      <p:sp>
        <p:nvSpPr>
          <p:cNvPr id="1018" name="Rectangle 5"/>
          <p:cNvSpPr/>
          <p:nvPr/>
        </p:nvSpPr>
        <p:spPr>
          <a:xfrm>
            <a:off x="1452960" y="2696400"/>
            <a:ext cx="7898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蝴 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Picture 5" descr="0d2f12245a43db288744f9e8"/>
          <p:cNvPicPr/>
          <p:nvPr/>
        </p:nvPicPr>
        <p:blipFill>
          <a:blip r:embed="rId1"/>
          <a:stretch/>
        </p:blipFill>
        <p:spPr>
          <a:xfrm>
            <a:off x="1763640" y="1557360"/>
            <a:ext cx="6769080" cy="460836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6"/>
          <p:cNvSpPr/>
          <p:nvPr/>
        </p:nvSpPr>
        <p:spPr>
          <a:xfrm>
            <a:off x="539640" y="29232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蝴 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阅读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读准字音，读通句子，并把生字词勾画出来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躲避 震撼 喧嚷 玷污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盈  素洁  柔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讨  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1280" y="3645000"/>
            <a:ext cx="777384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从课文中感受到作者怎样的心情？勾画出相关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2"/>
          <p:cNvSpPr/>
          <p:nvPr/>
        </p:nvSpPr>
        <p:spPr>
          <a:xfrm>
            <a:off x="900000" y="249228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默读课文，边读边想，下雨了，文中“我”的心情怎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认为用哪些词语形容比较贴切，说出自己的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讲了一个怎样的故事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5"/>
          <p:cNvSpPr/>
          <p:nvPr/>
        </p:nvSpPr>
        <p:spPr>
          <a:xfrm>
            <a:off x="1485360" y="1627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感知课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12Z</dcterms:created>
  <dc:creator/>
  <dc:description/>
  <dc:language>en-US</dc:language>
  <cp:lastModifiedBy>万润仪器贸易公司</cp:lastModifiedBy>
  <dcterms:modified xsi:type="dcterms:W3CDTF">2020-08-24T03:31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